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DD1B-739B-40CA-AD79-E54EECD6A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ood Born Illnes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YOU could be next!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Born 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be next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MPORTANT vocabulary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ross Contamination - moving bacteria from one source to another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Vector - responsible party (object, machine) that actually carries the bacteria from source to source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st - original source of contamination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vocabula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ontamination - moving bacteria from one source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 - responsible party (object, machine) that actually carries the bacteria from source to sou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- original source of cont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ll the same symptoms as Salmonella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US you CAN have….bloody diarrhea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 children under 5 years old &amp; in the elderly it can cause kidney failure, &amp; destroy red blood cells - RARE, only 2-7% of case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symptoms as Salmone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S you CAN have….bloody diarrh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ldren under 5 years old &amp; in the elderly it can cause kidney failure, &amp; destroy red blood cells - RARE, only 2-7% of c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fter Ingestion of E.coli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llness usually lasts 5-10 day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eople recover w/out antibiotic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hould NOT use anti-diarrhea medication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keeps BAC in body &amp; allows BAC to grow in warm, moist, conditions (&amp; the BAC has lots of nutrients!) so it GROWS!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gestion of E.c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ness usually lasts 5-10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eople recover w/out antibio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NOT use anti-diarrhea med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keeps BAC in body &amp; allows BAC to grow in warm, moist, conditions (&amp; the BAC has lots of nutrients!) so it GROWS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ok all meat wel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Use meat thermomet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 Thickest part of meat should be -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160° - beef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170° - poultry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.  If you don’t have a meat thermometer, cut into center of meat &amp; make sure it is NOT pink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  Keep raw meats separate from ready-to-eat foods (salads, breads etc.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hands, counter &amp; utensils with hot, soapy water after touching raw meat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ever place cooked meat on the same plate that held raw meat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 all meat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Use meat therm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Thickest part of meat should be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60° - b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70° - poul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f you don’t have a meat thermometer, cut into center of meat &amp; make sure it is NOT p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Keep raw meats separate from ready-to-eat foods (salads, breads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hands, counter &amp; utensils with hot, soapy water after touching raw m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lace cooked meat on the same plate that held raw m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vention (continued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rink only pasteurized milk and juice.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Products that have been pasteurized…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 Will say “pasteurized”  on the labe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 May be sold at room temperatur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fruits &amp; vegetables well (dry with paper towel)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hands after using restroom or changing diapers to reduce risk of spreading infection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 only pasteurized milk and jui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ducts that have been pasteuriz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ill say “pasteurized”  on the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May be sold at 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fruits &amp; vegetables well (dry with paper towe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hands after using restroom or changing diapers to reduce risk of spreading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at is food born illness?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llness resulting from eating food contaminated w/ a bacteria or viru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y cause outbreaks where many people become sick, with the same illness at the same time. (about 10% of a population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 Usually contaminated food comes from a location away from home (restaurant, baseball game etc.)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food born illn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ness resulting from eating food contaminated w/ a bacteria or vir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cause outbreaks where many people become sick, with the same illness at the same time. (about 10% of a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Usually contaminated food comes from a location away from home (restaurant, baseball game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pidemiology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tracking of outbreaks of illness (not always food illness) to discover where the original source of contamination came from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y?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 PREVENT it from happening again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cking of outbreaks of illness (not always food illness) to discover where the original source of contamination came fr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it from happening agai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lmonell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Many types live in poultry &amp; swine (birds &amp; pigs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Can be found in environment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wat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soi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. insect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. animal fece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. Found in undercooked meats, egg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1 in every 3 eggs is contaminated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Illness can be avoided if eggs are cooked properly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mon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any types live in poultry &amp; swine (birds &amp; pi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n be found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animal f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und in undercooked meats,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1 in every 3 eggs is contamin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Illness can be avoided if eggs are cook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 Conditions BAC need to liv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rmth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istur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utrient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ditions BAC need to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is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 factors that kill BAC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eme heat (this is BEST!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eme cold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asteurization - a heat treatment used to kill bacteria.  (commonly used with milk &amp; juice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factors that kill BA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heat (this is BEST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ization - a heat treatment used to kill bacteria.  (commonly used with milk &amp; ju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ause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tomach cramp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arrhe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eadach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 be fatal - RARE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r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fatal - R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fter Ingestion of bacteri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ill be sick within 6-72 hours after eating contaminated food.  (NOT usually sick immediately after eating!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 usually last 4-7 day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recover without antibiotic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arrhea can be severe enough to hospitalize person (dehydration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gestion of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sick within 6-72 hours after eating contaminated food.  (NOT usually sick immediately after ea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usually last 4-7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cover without antibio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 can be severe enough to hospitalize person (dehyd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. coli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cteria that produces a powerful toxin &amp; can cause severe illnes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Most strains harmles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Live in intestines of healthy humans &amp; animal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. Found in undercooked ground beef &amp; non-pasteurized milk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Meat can become contaminated during cattle slaughter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Bacteria on cow’s udders or on equipment can get into milk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 that produces a powerful toxin &amp; can cause severe ill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ost strains harm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ive in intestines of healthy humans &amp;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und in undercooked ground beef &amp; non-pasteurized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Meat can become contaminated during cattle sl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Bacteria on cow’s udders or on equipment can get into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A54-ABB7-419D-9DE8-7DE492A0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A290-1C1E-4B67-8B43-C2775616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5165-7936-4997-81A6-934FF97E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CAC-E6F8-4F05-9A7B-EF9C70DD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71B1-7BF0-434C-94F1-CF3A8E9E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2C61-25CA-4B5A-B39F-AFE9E521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576D-7B4F-4F91-A9CD-F9845C5F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AC9C-2F76-4922-A5AB-9E36D655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8009-AA73-4391-BF43-32434689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7E09-05D4-4C06-A925-0AFB5A70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E883-DD9B-4DB0-9E74-92251C8B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463-E2C0-41FF-829E-5E4480FC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558E-CAC0-49AE-8BA7-3E1323B9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9E25-570E-456F-B841-F9B4827D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6859-EE81-45B4-94D4-EDD806D0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1741-B235-4CB6-A936-E59C170F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9963-36AF-41A8-BDAD-0851F91B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0353-4EDC-4D9A-B7C9-A1369F93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A2D9-AC6E-49A7-9C39-28649501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4505-7007-41A7-9A1E-5DAB303E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C46-98AB-47C2-9701-E81B3345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E71-6EDC-496E-B44F-0B718143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1045-E1D1-4E7D-B835-F65FD27A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BBA-9D70-407F-97F6-5F1055E2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Chalkboar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38CD-3A37-4023-9236-31ECE98925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Chalkboard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F708-DAB1-4574-995C-B2452E0B608B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Food Born Illnes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YOU could be next!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MPORTANT vocabulary!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Cross Contamin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moving bacteria from one source to another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Vector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sponsible party (object, machine) that actually carries the bacteria from source to sourc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Host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original source of contaminat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ymptom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ll the same symptoms as Salmonella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LUS you CAN have….bloody diarrhea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n children under 5 years old &amp; in the elderly it can cause kidney failure, &amp; destroy red blood cells - RARE, only 2-7% of cas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fter Ingestion of E.coli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7631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llness usually lasts 5-10 day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ost people recover w/out antibiotic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ould NOT use anti-diarrhea medication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- keeps BAC in body &amp; allows BAC to grow in warm, moist, conditions (&amp; the BAC has lots of nutrients!) so it GROWS!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-305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vention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ok all meat we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Use meat thermome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.  Thickest part of meat should be -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160° - beef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170° - poult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.  If you don’t have a meat thermometer, cut into center of meat &amp; make sure it is NOT pink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495680" y="6854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.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 raw meats separate from ready-to-eat foods (salads, breads etc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sh hands, counter &amp; utensils with hot, soapy water after touching raw m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ver place cooked meat on the same plate that held raw m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vention (continued)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28600" y="6854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rink only pasteurized milk and juice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- Products that have been pasteurized…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 Will say “pasteurized”  on the labe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 May be sold at room temperatu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762120"/>
            <a:ext cx="4495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sh fruits &amp; vegetables well (dry with paper towel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01480" indent="-501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sh hands after using restroom or changing diapers to reduce risk of spreading infect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What is food born illness?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llness resulting from eating food contaminated w/ a bacteria or viru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ay cause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outbreaks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where many people become sick, with the same illness at the same time. (about 10% of a population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 Usually contaminated food comes from a location away from home (restaurant, baseball game etc.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pidemiology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e tracking of outbreaks of illness (not always food illness) to discover where the original source of contamination came from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hy?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o PREVENT it from happening again!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-381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almonell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956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15800" indent="-41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Many types live in poultry &amp; swine (birds &amp; pigs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Can be found in environmen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wa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soi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. insec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. animal fec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95680" y="11426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Found in undercooked meats, egg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1 in every 3 eggs is contaminated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Illness can be avoided if eggs are cooked properly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3 Conditions BAC need to liv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armth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Moisture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utrient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2 factors that kill BAC!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treme heat</a:t>
            </a:r>
            <a:r>
              <a:rPr b="0" lang="en-US" sz="4000" spc="-1" strike="noStrike">
                <a:solidFill>
                  <a:srgbClr val="ea0b1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(this is BEST!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treme col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Pasteurization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- a heat treatment used to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kill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bacteria.  (commonly used with milk &amp; juice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ymptoms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Nause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Vomit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tomach cramp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iarrhe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Fev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Headach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AN be fatal - RARE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fter Ingestion of bacteri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610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ill be sick within 6-72 hours after eating contaminated food.  (NOT usually sick immediately after eating!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Symptoms usually last 4-7 day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ost recover without antibiotic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iarrhea can be severe enough to hospitalize person (dehydration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. coli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572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cteria that produces a powerful toxin &amp; can cause severe illnes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Most strains harmles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Live in intestines of healthy humans &amp; animal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343040" y="990720"/>
            <a:ext cx="48006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Found in undercooked ground beef &amp; non-pasteurized mil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Meat can become contaminated during cattle slaughter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Bacteria on cow’s udders or on equipment can get into mil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14:45:42Z</dcterms:created>
  <dc:creator>Wydown Middle School</dc:creator>
  <dc:description/>
  <dc:language>en-US</dc:language>
  <cp:lastModifiedBy>LEGION2</cp:lastModifiedBy>
  <cp:lastPrinted>2008-07-28T19:25:33Z</cp:lastPrinted>
  <dcterms:modified xsi:type="dcterms:W3CDTF">2016-01-14T09:20:23Z</dcterms:modified>
  <cp:revision>17</cp:revision>
  <dc:subject/>
  <dc:title>Food Born Illness</dc:title>
</cp:coreProperties>
</file>